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AA0A-8044-48EB-B64C-B6BBC154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A47-1D39-4972-B6DA-BCA6A345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84B-926A-41D4-A41E-394CB256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38ED-597F-43DD-B0DB-7B5DF13F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6B1C-8727-4C37-8D9F-AD870231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12EB-134D-4451-8597-6FD29C66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D088-68C5-4E27-9DA7-CC4340B1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02BA-26EF-4E95-A14E-13FE8668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A7EE-984C-424B-A036-7ADFE008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7F8D-A42C-4DF4-B678-4CF11EA6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2879-932A-4510-8B9C-6B5171F3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16CE-4279-42B2-A4AE-BAFE62BD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F7B7-4EBE-48CE-97E4-CB5DBF14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5A2B-DC0B-4DB6-980D-E272280B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39BE-6EBD-47C9-96E8-AB35D43B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DE61-7E11-48DB-AB6C-D8829D64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09F9-32F7-4A2A-98EF-D34093CC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4A91-6AB4-49D6-8B71-BAA22186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0828-D793-4952-AB25-3D252B02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A607-48FE-41D2-B2A3-58A772DA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584D-D813-4030-823A-E23ECC50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61E0-451F-4FB7-BE95-F0CEF10D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B09-E97E-4532-9E7A-F5FCBA6C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C825-D151-4901-A72E-1C8C8181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B859-8689-4C72-8B20-A03A64814F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C4FE-00A3-4386-AAC4-4AA0FAEF49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8640" y="837720"/>
            <a:ext cx="86853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PP_SlidesSpeichern.dot </a:t>
            </a:r>
            <a:r>
              <a:rPr b="1" lang="de-DE" sz="2400" spc="-1" strike="noStrike" baseline="30000">
                <a:solidFill>
                  <a:srgbClr val="ffcc66"/>
                </a:solidFill>
                <a:latin typeface="Arial"/>
                <a:ea typeface="Times New Roman"/>
              </a:rPr>
              <a:t>© 2000, Ralf Nebelo</a:t>
            </a: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13:03:40Z</dcterms:created>
  <dc:creator>Ralf Nebelo</dc:creator>
  <dc:description/>
  <dc:language>en-US</dc:language>
  <cp:lastModifiedBy>Ralf Nebelo</cp:lastModifiedBy>
  <dcterms:modified xsi:type="dcterms:W3CDTF">2000-07-20T15:06:20Z</dcterms:modified>
  <cp:revision>47</cp:revision>
  <dc:subject/>
  <dc:title>PowerPoint-Präsentation</dc:title>
</cp:coreProperties>
</file>