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9FD-34F0-40EB-96AC-1E580E9F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712F-40A0-42DA-8656-02383847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509-4A89-4C4E-96EB-AAB874F0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4B5-B5FA-4603-AC78-CFBB89EB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586-A435-487E-B4B9-3E2EA370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B10-0464-4A0B-835E-AF8314BB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2FE-BE42-4DF0-93C5-412A991A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B86-1828-40B5-90ED-BA2F41A7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D3A-21CE-4466-BCD4-377D8AFD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585-B7CA-4B93-8C4F-4CF11894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31A-F186-447C-A2B1-550D5D1C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B12-F288-40F4-933A-29F18D3B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FF59-E96A-4DEA-8E7E-0DB6C4057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4:55:10Z</dcterms:created>
  <dc:creator>Ralf Nebelo</dc:creator>
  <dc:description/>
  <dc:language>en-US</dc:language>
  <cp:lastModifiedBy>Ralf Nebelo</cp:lastModifiedBy>
  <dcterms:modified xsi:type="dcterms:W3CDTF">1998-07-28T12:38:51Z</dcterms:modified>
  <cp:revision>47</cp:revision>
  <dc:subject/>
  <dc:title>Kein Folientitel</dc:title>
</cp:coreProperties>
</file>