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3C0-DDE3-4F24-B4C4-95B1FA6D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C32-DEFA-482C-A5D0-01782C1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8EF-787E-49AE-AEAA-CBA935C3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4C5-A455-4F6C-80BF-87CCF96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75A-1DA3-4A2B-BF1E-BF5E240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3821-9271-425C-9307-F572822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39B-29AF-4335-8534-5FFBCBC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1BD-6593-4A04-9550-60AF9FED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265-71CC-4E46-B725-F6E1120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C350-39C2-4B3B-B134-D0340A00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983-10CA-46C6-860A-C267C7C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E72-F08D-492A-9784-95617F3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AED-975D-465F-83DC-11BC0EA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85C-2F2F-4647-B098-C803C6F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C20D-70DA-44D3-BEA4-E2FB27EB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342-070F-4AB7-8216-5A9BE1BC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448D-5107-4A21-9504-7D46EA85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458-4D28-4B72-9409-0B1DD1A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7D7-9EB5-47B7-8D13-6AE9DF2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42B-36DD-4B5E-94DF-86A6E50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2E2-816F-4B1C-90C4-41E22E33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B2B-DB99-4FD1-831D-8F77978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7AB-98CD-46E5-ACB8-62D71F4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961-4855-4A3B-9C90-6D35F861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111F-8218-4602-9094-BD1A2AF4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278-8EFB-4D01-9E15-AD90319CF0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3db9c"/>
                </a:solidFill>
                <a:latin typeface="Arial Black"/>
              </a:rPr>
              <a:t>Z</a:t>
            </a:r>
            <a:r>
              <a:rPr b="0" lang="de-DE" sz="4000" spc="-1" strike="noStrike">
                <a:solidFill>
                  <a:srgbClr val="86b6c1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579160"/>
                </a:solidFill>
                <a:latin typeface="Arial Black"/>
              </a:rPr>
              <a:t>i</a:t>
            </a:r>
            <a:r>
              <a:rPr b="0" lang="de-DE" sz="4000" spc="-1" strike="noStrike">
                <a:solidFill>
                  <a:srgbClr val="ce98a4"/>
                </a:solidFill>
                <a:latin typeface="Arial Black"/>
              </a:rPr>
              <a:t>c</a:t>
            </a:r>
            <a:r>
              <a:rPr b="0" lang="de-DE" sz="4000" spc="-1" strike="noStrike">
                <a:solidFill>
                  <a:srgbClr val="9dbce2"/>
                </a:solidFill>
                <a:latin typeface="Arial Black"/>
              </a:rPr>
              <a:t>h</a:t>
            </a:r>
            <a:r>
              <a:rPr b="0" lang="de-DE" sz="4000" spc="-1" strike="noStrike">
                <a:solidFill>
                  <a:srgbClr val="a7dd44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bf7ba2"/>
                </a:solidFill>
                <a:latin typeface="Arial Black"/>
              </a:rPr>
              <a:t>n</a:t>
            </a:r>
            <a:r>
              <a:rPr b="0" lang="de-DE" sz="4000" spc="-1" strike="noStrike">
                <a:solidFill>
                  <a:srgbClr val="b85cca"/>
                </a:solidFill>
                <a:latin typeface="Arial Black"/>
              </a:rPr>
              <a:t>s</a:t>
            </a:r>
            <a:r>
              <a:rPr b="0" lang="de-DE" sz="4000" spc="-1" strike="noStrike">
                <a:solidFill>
                  <a:srgbClr val="b17e7d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7200bf"/>
                </a:solidFill>
                <a:latin typeface="Arial Black"/>
              </a:rPr>
              <a:t>l</a:t>
            </a:r>
            <a:r>
              <a:rPr b="0" lang="de-DE" sz="4000" spc="-1" strike="noStrike">
                <a:solidFill>
                  <a:srgbClr val="e5780e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6eb61d"/>
                </a:solidFill>
                <a:latin typeface="Arial Black"/>
              </a:rPr>
              <a:t>t</a:t>
            </a:r>
            <a:br>
              <a:rPr sz="4000"/>
            </a:br>
            <a:r>
              <a:rPr b="0" i="1" lang="de-DE" sz="1400" spc="-1" strike="noStrike">
                <a:solidFill>
                  <a:srgbClr val="000066"/>
                </a:solidFill>
                <a:latin typeface="Times New Roman"/>
              </a:rPr>
              <a:t>Programmautor: Stefan Spohn, c‘t 13/98</a:t>
            </a:r>
            <a:endParaRPr b="0" lang="en-US" sz="1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eses Dokument enthält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24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ie vollständigen Makros „Euro“ „Kunterbunt“ sowie </a:t>
            </a:r>
            <a:r>
              <a:rPr b="0" lang="de-DE" sz="21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de-DE" sz="2100" spc="-1" strike="noStrike" baseline="21000">
                <a:solidFill>
                  <a:srgbClr val="000066"/>
                </a:solidFill>
                <a:latin typeface="Arial"/>
              </a:rPr>
              <a:t>J</a:t>
            </a:r>
            <a:r>
              <a:rPr b="0" lang="de-DE" sz="2100" spc="-1" strike="noStrike" baseline="45000">
                <a:solidFill>
                  <a:srgbClr val="000066"/>
                </a:solidFill>
                <a:latin typeface="Arial"/>
              </a:rPr>
              <a:t>u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m</a:t>
            </a:r>
            <a:r>
              <a:rPr b="0" lang="de-DE" sz="2100" spc="-1" strike="noStrike" baseline="13000">
                <a:solidFill>
                  <a:srgbClr val="000066"/>
                </a:solidFill>
                <a:latin typeface="Arial"/>
              </a:rPr>
              <a:t>p</a:t>
            </a:r>
            <a:r>
              <a:rPr b="0" lang="de-DE" sz="2100" spc="-1" strike="noStrike" baseline="31000">
                <a:solidFill>
                  <a:srgbClr val="000066"/>
                </a:solidFill>
                <a:latin typeface="Arial"/>
              </a:rPr>
              <a:t>i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n</a:t>
            </a:r>
            <a:r>
              <a:rPr b="0" lang="de-DE" sz="2100" spc="-1" strike="noStrike" baseline="24000">
                <a:solidFill>
                  <a:srgbClr val="000066"/>
                </a:solidFill>
                <a:latin typeface="Arial"/>
              </a:rPr>
              <a:t>g</a:t>
            </a:r>
            <a:r>
              <a:rPr b="0" lang="de-DE" sz="2100" spc="-1" strike="noStrike" baseline="12000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100" spc="-1" strike="noStrike" baseline="35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1000">
                <a:solidFill>
                  <a:srgbClr val="000066"/>
                </a:solidFill>
                <a:latin typeface="Arial"/>
              </a:rPr>
              <a:t>h</a:t>
            </a:r>
            <a:r>
              <a:rPr b="0" lang="de-DE" sz="2100" spc="-1" strike="noStrike" baseline="1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2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23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e</a:t>
            </a:r>
            <a:r>
              <a:rPr b="0" lang="de-DE" sz="2100" spc="-1" strike="noStrike" baseline="3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39000">
                <a:solidFill>
                  <a:srgbClr val="000066"/>
                </a:solidFill>
                <a:latin typeface="Arial"/>
              </a:rPr>
              <a:t>s</a:t>
            </a:r>
            <a:r>
              <a:rPr b="0" lang="de-DE" sz="21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endParaRPr b="0" lang="en-US" sz="21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Hinweise zur Verwendung der Makro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weitere Folien mit Zahlenmaterial; zum direkten Ausprobieren von  „Euro“ 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4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64008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cccc"/>
                </a:solidFill>
                <a:latin typeface="Arial Black"/>
              </a:rPr>
              <a:t>Fortsetzung auf S.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9880"/>
            <a:ext cx="8382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rten der Makros:</a:t>
            </a:r>
            <a:br>
              <a:rPr sz="14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Sofern Sie die Mühe scheuen, eine eigene Symbolleiste für Ihre Makros einzurichten,  können Sie ein Makro grundsätzlich so ausführe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assen Sie sich mit &lt;ALT&gt;+&lt;F 8&gt; die Liste der zur Verfügung stehenden Makros anzeige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Markieren Sie das gewünschte Makro und klicken Sie auf „Ausführen“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dienung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as Makro </a:t>
            </a:r>
            <a:r>
              <a:rPr b="1" lang="de-DE" sz="1600" spc="-1" strike="noStrike">
                <a:solidFill>
                  <a:srgbClr val="80008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1" lang="de-DE" sz="16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008080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808000"/>
                </a:solidFill>
                <a:latin typeface="Arial"/>
              </a:rPr>
              <a:t>”</a:t>
            </a:r>
            <a:r>
              <a:rPr b="0" lang="de-DE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formatiert die Zeichen eines markierten Textbereiches mit unterschiedlichen Farben. Die Zuweisung der Farben erfolgt per Zufall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Markieren Sie also einen Textbereich per Maus oder per Tastatur und starten Sie das Makro wie eben beschrieb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Buchstaben und Zahlen, die mit dem Schriftattribut „Hervorgehoben“ formatiert, können nicht mit einer eigenen Schriftfarbe versehen werden. Von daher zeigt das Makro bei „hervorgehobenen“ Buchstaben keine Wirkung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ie Bedienung des Makros </a:t>
            </a: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J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u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m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p</a:t>
            </a:r>
            <a:r>
              <a:rPr b="1" lang="de-DE" sz="2100" spc="-1" strike="noStrike" baseline="34000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100" spc="-1" strike="noStrike" baseline="23000">
                <a:solidFill>
                  <a:srgbClr val="000066"/>
                </a:solidFill>
                <a:latin typeface="Arial"/>
              </a:rPr>
              <a:t>n</a:t>
            </a:r>
            <a:r>
              <a:rPr b="1" lang="de-DE" sz="2100" spc="-1" strike="noStrike" baseline="32000">
                <a:solidFill>
                  <a:srgbClr val="000066"/>
                </a:solidFill>
                <a:latin typeface="Arial"/>
              </a:rPr>
              <a:t>g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100" spc="-1" strike="noStrike" baseline="21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h</a:t>
            </a:r>
            <a:r>
              <a:rPr b="1" lang="de-DE" sz="2100" spc="-1" strike="noStrike" baseline="45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35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14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2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1" lang="de-DE" sz="2100" spc="-1" strike="noStrike" baseline="43000">
                <a:solidFill>
                  <a:srgbClr val="000066"/>
                </a:solidFill>
                <a:latin typeface="Arial"/>
              </a:rPr>
              <a:t>e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s</a:t>
            </a:r>
            <a:r>
              <a:rPr b="1" lang="de-DE" sz="16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ist entsprechend. Statt unterschiedlicher Farbgebung werden die einzelnen Zeichen des markierten Textbereichs in ihren vertikalen Positionen per Zufallszahl unterschiedlich angeordnet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eider liegt es in der Eigenart von Powerpoint, Zeichen beim Hoch- und Tiefstellen zu verkleinern. Von daher müssen die „Jumping Characters“ nachträglich in ihrer Größe korrigiert werden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s Makro „E U R O” benötigt keine Textmarkierung. Quasi mit einem Mausklick wird die gesamte aktuelle Präsentation nach DM-Angaben durchsucht. Diese werden in die neue Währung “Euro” konvertiert; also umgerechnet und mit neuer Einheit verseh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bei werden jedoch nur Zahlen mit nachgestellter Währung berücksichtigt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de-DE" sz="1600" spc="-1" strike="noStrike" u="sng">
                <a:solidFill>
                  <a:srgbClr val="000066"/>
                </a:solidFill>
                <a:uFillTx/>
                <a:latin typeface="Tahoma"/>
              </a:rPr>
              <a:t>Nicht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berücksichtigt wird also z.B. </a:t>
            </a:r>
            <a:r>
              <a:rPr b="0" lang="de-DE" sz="1600" spc="-1" strike="noStrike">
                <a:solidFill>
                  <a:srgbClr val="ff00ff"/>
                </a:solidFill>
                <a:latin typeface="Tahoma"/>
              </a:rPr>
              <a:t>DM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34,50.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2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pieren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1) Öffnen Sie neben dieser Präsentation zusätzlich jenes Powerpoint-Dokument, in welches die Module eingefügt werden sollen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2) Wechseln Sie mit der Tastenkombination &lt;ALT&gt;+&lt;F 11&gt; in den Editor von Visual Basic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3) Klicken Sie im Menü „Ansicht" auf den Eintrag Projekt-Explorer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4) Sie erhalten eine baumartige Struktur, aus welcher hervorgeht, welche Programmmodule in den einzelnen Präsentationen vorhanden sind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(Sofern vor dem Ordnersymbol „Module" ein Pluszeichen steht, können Sie den Ordner wie gewohnt mit einem Doppelklick öffnen.)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5) Ziehen Sie das „Modul 1" aus der Mappe "Zeichensalat" in das gewünschte Dokument. In „Modul 1“ sind alle drei Makros enthalten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6) Im Zieldokument finden Sie dann die kopierten Listings ebenfalls im Order „Module“ vo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981080"/>
            <a:ext cx="7925040" cy="373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1920" y="50328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Beispielzahlen für „Euro“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924680" cy="3400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Nettoeinnahmen: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34980,7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Bargeld &amp; Investitio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(kurzfristig)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59879,4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usstehende Rechnung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2980,74 D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51"/>
              </a:spcAft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Gesamtguthab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07841,00 D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5146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4290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41972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4T20:08:40Z</dcterms:created>
  <dc:creator>Stefan Spohn</dc:creator>
  <dc:description/>
  <dc:language>en-US</dc:language>
  <cp:lastModifiedBy>Dieter Brors</cp:lastModifiedBy>
  <dcterms:modified xsi:type="dcterms:W3CDTF">1998-06-19T11:23:50Z</dcterms:modified>
  <cp:revision>51</cp:revision>
  <dc:subject/>
  <dc:title>Zeichensalat Programmautor: Stefan Spohn, 21379 Scharnebeck</dc:title>
</cp:coreProperties>
</file>