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5CD07-B074-4DD3-9EF1-C16AB99C6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DBB08-993A-4481-AFA2-21A8BB65C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9657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D55BA-6852-40F0-9116-793C2264A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84976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01408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84976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01408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244BB-8D22-4DEE-B87F-D803B5F68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D6065-26DA-4928-8F58-7E050455D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CA233-89A3-4C6A-9F30-DA14E20D9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D096B-9CAA-4958-8C02-2DC887B92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E39F5-D764-407F-A3B5-CAB27ECA5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7B684-4BE6-4CD3-B190-626F318A4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293840" y="761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DBE4C-BBA1-40A0-ABFE-D7BF1E4EE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DD523-CEB2-47AF-9C5A-9F03B1E7F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6FB1E-AA6D-4579-8325-003F1B2C0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9657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0A18B-90B7-4F4E-BEA7-77E6091E9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AD09A-E843-4D33-A971-89DC39CD0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127DC-9A10-4EB6-9F80-4A25C5D69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9657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F6153-0BEB-4063-B3FD-85E7B8F4B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84976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1408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284976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01408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C94D2-D02D-4AF0-BF10-1A5303463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8A25C-56FD-4AC6-BEFE-52563C415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250EC-1AA9-4045-8D27-E2F546882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2F1A7-F1C7-48D7-8D3E-4BCC24CE5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293840" y="761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60221-E72A-4B23-8586-5954A59CE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B2042-433E-416D-8723-ADA69B919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9657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639C9-5CDB-42EA-A184-F3C1CA5A4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78D9C-7EE5-48D5-9315-013DE12E1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FC6A3-F7C1-4945-94BC-6D980A2AB9B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5F1EB-7116-4589-9A67-61B0A4AB7A2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8640" y="837720"/>
            <a:ext cx="868536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cc66"/>
                </a:solidFill>
                <a:latin typeface="Arial"/>
                <a:ea typeface="Times New Roman"/>
              </a:rPr>
              <a:t>PP_SlidesSpeichern.dot </a:t>
            </a:r>
            <a:r>
              <a:rPr b="1" lang="de-DE" sz="2400" spc="-1" strike="noStrike" baseline="30000">
                <a:solidFill>
                  <a:srgbClr val="ffcc66"/>
                </a:solidFill>
                <a:latin typeface="Arial"/>
                <a:ea typeface="Times New Roman"/>
              </a:rPr>
              <a:t>© 2000, Ralf Nebelo</a:t>
            </a:r>
            <a:r>
              <a:rPr b="0" lang="de-DE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9T13:03:40Z</dcterms:created>
  <dc:creator>Ralf Nebelo</dc:creator>
  <dc:description/>
  <dc:language>en-US</dc:language>
  <cp:lastModifiedBy>Ralf Nebelo</cp:lastModifiedBy>
  <dcterms:modified xsi:type="dcterms:W3CDTF">2000-07-20T15:06:20Z</dcterms:modified>
  <cp:revision>47</cp:revision>
  <dc:subject/>
  <dc:title>PowerPoint-Präsentation</dc:title>
</cp:coreProperties>
</file>