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A9D1-83B5-4947-9E33-C9F9FEC06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3A50-9D9E-4132-BECE-F9E612E4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F839-0E96-4D66-976E-53F6122C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8136-A8F6-4B99-A478-A930658E3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37EB-6BAD-4B52-B8C1-231E5263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7920-852B-45A9-A309-5966D0D6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9608-568F-4465-8D6F-C3B0914C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E7CA-706D-4BFB-947F-B4724CD4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A6EA-E926-4D45-88D2-E851811D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A1BB-5835-41D8-9AD7-A3663EA3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5159-21B7-4A8F-AF57-B09798FA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D544-3E35-4BE5-869F-5A1C6FEF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1905-0B08-426C-8E3C-F8135291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43B3-339C-46C0-9CA5-BAE0D1F2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CD99-8C7D-494F-8204-D8B6F563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A9CA-9323-474F-81A1-907537971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759B-7801-42C7-98DE-8E0FE2DC5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53F1-C6E7-4DEB-A683-1405B727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0401-6C66-499C-827F-0E247579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D98F-59BC-4C31-AF59-13D389CC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E796-6108-43EE-B76F-014D7866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5B8A-3217-4C63-971E-E4198CC8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7906-FF7B-4C8A-B825-1D999765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7448-8187-4037-99E5-28DD748C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C666-4613-4D7A-8C2F-D0594B3278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D3C3-FF95-445E-9759-601B5E0118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8640" y="837720"/>
            <a:ext cx="86853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PP_SlidesSpeichern.dot </a:t>
            </a:r>
            <a:r>
              <a:rPr b="1" lang="de-DE" sz="2400" spc="-1" strike="noStrike" baseline="30000">
                <a:solidFill>
                  <a:srgbClr val="ffcc66"/>
                </a:solidFill>
                <a:latin typeface="Arial"/>
                <a:ea typeface="Times New Roman"/>
              </a:rPr>
              <a:t>© 2000, Ralf Nebelo</a:t>
            </a: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9T13:03:40Z</dcterms:created>
  <dc:creator>Ralf Nebelo</dc:creator>
  <dc:description/>
  <dc:language>en-US</dc:language>
  <cp:lastModifiedBy>Ralf Nebelo</cp:lastModifiedBy>
  <dcterms:modified xsi:type="dcterms:W3CDTF">2000-07-20T15:06:20Z</dcterms:modified>
  <cp:revision>47</cp:revision>
  <dc:subject/>
  <dc:title>PowerPoint-Präsentation</dc:title>
</cp:coreProperties>
</file>