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30A-5284-4886-9E4A-117737FB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F74-489B-4D88-8099-3D5CD56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29A-8B3B-4A25-B01F-4FA12261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856-5F0B-442D-9E9E-070CCE33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5FE-B6A7-44D6-9AF9-D1F31215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97D-6573-42AD-B08F-F413EA7D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762-3178-48BA-9844-8167210C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062-3F1F-4DE3-86CB-5D0EA194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99C-FEB4-48D9-83D7-F1C3E9CF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8C7-2181-48C3-AC53-7F7B293C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D77-C8E6-4E20-80DE-1CD1A66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C45-4F24-45CD-BBDC-83693004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5303-2E71-490C-8E55-77CB21745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4:55:10Z</dcterms:created>
  <dc:creator>Ralf Nebelo</dc:creator>
  <dc:description/>
  <dc:language>en-US</dc:language>
  <cp:lastModifiedBy>Ralf Nebelo</cp:lastModifiedBy>
  <dcterms:modified xsi:type="dcterms:W3CDTF">1998-07-28T12:38:51Z</dcterms:modified>
  <cp:revision>47</cp:revision>
  <dc:subject/>
  <dc:title>Kein Folientitel</dc:title>
</cp:coreProperties>
</file>