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AF02-7020-4830-9674-B4F52125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B0E-C79A-4677-8695-AB50B86D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E511-E5F7-47E0-B1E6-382C3213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21B7-E200-4930-9E1C-8CBC1F5D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63D11-A6F3-4AD2-90AD-3CBA6D630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20A1-B17C-4DA7-A0AF-0ECAE8FA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77DA-5A99-43C0-A0CD-9588A2AB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6FA4-47F5-4E9E-ABAE-13A8B551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87FE-AFDA-46F5-9B35-33ED6724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234B-8FAA-491C-A714-705A8C1B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2AA4-ABB5-4BEB-9114-C14E620D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2B2-BBD4-4EA6-8CDE-359D75D9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4778-7CCF-4EC4-A201-A3AE81FC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21D0-9EA3-4711-87D2-C513ED0F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4B3F-8A62-4063-BCD3-28512920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D7FB-CA35-4BEC-9F61-01100D48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8497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40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8497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0140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081E-A1B6-4FF3-93B5-2C767DA2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562-5D66-4D8B-ADBF-7F947105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7B06-14B9-4115-857B-FBBBEF1F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8F7-5DAA-451D-B708-C1D4010E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81A2-63D1-47EE-BAF9-581BE615B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E185-BBBE-4967-AB40-5F8F29C5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657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13F9-1C94-4020-A575-0AD56D53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657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10C-C640-42D8-9795-FF3D7067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6E49-F1F8-4C88-A0FA-11D72F8A60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074E-E4A9-4259-B1EE-C588FA4D6B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8640" y="837720"/>
            <a:ext cx="86853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c66"/>
                </a:solidFill>
                <a:latin typeface="Arial"/>
                <a:ea typeface="Times New Roman"/>
              </a:rPr>
              <a:t>PP_SlidesSpeichern.dot </a:t>
            </a:r>
            <a:r>
              <a:rPr b="1" lang="de-DE" sz="2400" spc="-1" strike="noStrike" baseline="30000">
                <a:solidFill>
                  <a:srgbClr val="ffcc66"/>
                </a:solidFill>
                <a:latin typeface="Arial"/>
                <a:ea typeface="Times New Roman"/>
              </a:rPr>
              <a:t>© 2000, Ralf Nebelo</a:t>
            </a:r>
            <a:r>
              <a:rPr b="0" lang="de-DE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13:03:40Z</dcterms:created>
  <dc:creator>Ralf Nebelo</dc:creator>
  <dc:description/>
  <dc:language>en-US</dc:language>
  <cp:lastModifiedBy>Ralf Nebelo</cp:lastModifiedBy>
  <dcterms:modified xsi:type="dcterms:W3CDTF">2000-07-20T15:06:20Z</dcterms:modified>
  <cp:revision>47</cp:revision>
  <dc:subject/>
  <dc:title>PowerPoint-Präsentation</dc:title>
</cp:coreProperties>
</file>