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2E62-7BFC-4A66-8CBD-7582F0F2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D57B-BB41-4BD1-835B-EFFAAE2B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ECB-F3CC-456E-8DBD-C5C6B11D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CD18-86F9-420D-A5E3-635CB316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C831-1934-48FF-93C1-DE338367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771A-F530-4235-9608-D59C0FF0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830-D45E-473B-B904-A5F1C61C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26B8-E8DF-4AB5-924D-774B6756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2122-CA43-4E0C-A87F-11A7BAD6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C1C-3C6E-42BF-91CC-56A569A4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8AA9-5EF8-455E-B59D-26632972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0E27-8541-4307-B281-73C3C742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3416-4025-4DB1-A601-C7B44807F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4:55:10Z</dcterms:created>
  <dc:creator>Ralf Nebelo</dc:creator>
  <dc:description/>
  <dc:language>en-US</dc:language>
  <cp:lastModifiedBy>Ralf Nebelo</cp:lastModifiedBy>
  <dcterms:modified xsi:type="dcterms:W3CDTF">1998-07-28T12:38:51Z</dcterms:modified>
  <cp:revision>47</cp:revision>
  <dc:subject/>
  <dc:title>Kein Folientitel</dc:title>
</cp:coreProperties>
</file>