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ECDB-6504-457B-A127-79571CF49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5398-3CF2-4FE8-8832-80A20BB9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E583-5EF3-4C6C-9330-E56A15BD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4D4F-59E9-4471-B4BE-A646A8E7B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9E91-B311-42DA-B039-F5E06894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99E6-3EFA-46B7-8B3A-8E161446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07B7-CD47-488B-9627-AB46F97A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5704-A743-45B8-824B-338DA5FC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EC51-E2FA-4863-BEDB-D832C0F5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4FE1-EA92-40C3-A7C5-39C48C9E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9F78-5C71-45E3-AC4D-35387649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1170-26C8-4087-BB7E-6909FB28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D0A9-E5B2-4264-B9ED-25D6B3FB0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4:55:10Z</dcterms:created>
  <dc:creator>Ralf Nebelo</dc:creator>
  <dc:description/>
  <dc:language>en-US</dc:language>
  <cp:lastModifiedBy>Ralf Nebelo</cp:lastModifiedBy>
  <dcterms:modified xsi:type="dcterms:W3CDTF">1998-07-28T12:38:51Z</dcterms:modified>
  <cp:revision>47</cp:revision>
  <dc:subject/>
  <dc:title>Kein Folientitel</dc:title>
</cp:coreProperties>
</file>